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3A1-52AA-42D4-9A5A-D0DBF847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D78-5F13-4233-B337-75E6F233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77F-B917-477F-B390-3B27F8A5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768-C8DD-4DDE-8A28-DAAE18F5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B75-1494-4912-9FBB-CF11D8DA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175-33B6-4D14-ACE0-8F5D9438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6A6E-64AB-4F33-AB69-08BC24EE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821-20F7-493C-8169-FAF7D82C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50C1-EB83-48AF-9629-2F01DE26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6AD-EF62-420A-A223-72885776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2F3-8267-48E3-9907-FC6D6EF8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A12-3E60-451E-8143-9903EA07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ADC3-6397-45EE-AD69-5D7D024CC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2.scholastic.com/browse/video.jsp?pID=1640149541&amp;bcpid=1640149541&amp;bclid=57826465001&amp;bctid=76958613001" TargetMode="External"/><Relationship Id="rId2" Type="http://schemas.openxmlformats.org/officeDocument/2006/relationships/hyperlink" Target="http://www2.scholastic.com/browse/video.jsp?pID=1640149541&amp;bcpid=1640149541&amp;bclid=57826465001&amp;bctid=76958613001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Book Tal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Book Ta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eview of a book by one person.  It should be short and exciting and should have a cliff hanger.  Its purpose is to sell the book.  It is not a full sum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Trailer- very short, action packed video shown to entice the person to read the book.  It has a plot but does not give away en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Book Talk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read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reading-If you liked this book, here are some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log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-Give book talk after reading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o invite into a center or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Grabs readers 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s them to different gen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d to different demographics and may relate to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be used in classroom and media center-especially G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 you meet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s children practice summarization and identifying elements of the sto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tend to be commercial like and produced by author or publisher with the intent to sell the book not to entice the person to read the 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If children do book talks-some of them do not like to talk on cam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Book trailers want to persuade you to read the book-book talks want to excite you about boo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believe it to be a video recording just reading the book-not all used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Not many people can create a book trailer the way it should be made-low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fter Ever After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lack Rabbit Summ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Arriv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Of Mice and Men 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Natur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0:55:25Z</dcterms:modified>
  <cp:revision>4</cp:revision>
  <dc:subject/>
  <dc:title>Digital ___________</dc:title>
</cp:coreProperties>
</file>